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gif" ContentType="image/gi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41A-BF65-4778-9AC0-1C1B0513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BC3-3DFF-45E8-A138-BEBA03A7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755-5DCD-45A2-9859-735287D0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FEE-FDF1-4461-B3A1-21C794C7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3836-5B55-439B-BC16-83DB1C0A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F5FB-72AC-423E-9FF6-2AFA0718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EA6E-1AB4-4D6F-B382-95ABBD7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842C-7405-41EC-9741-F3ADFB4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4661-29AE-4DDC-A58A-C16E17D0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E5FE-D3E7-47DB-911C-15C5053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3FB1-9E95-4A62-8927-804516A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308-9BD6-46A6-8034-4B280A0C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8BE-27CA-4F58-8FF0-00DE0A1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804C-8951-4751-96A3-B76EBFF1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B91-1F9F-4F32-A225-FEB4FE9A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E3FD-6BFF-4BFD-8269-6DD482DB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0AB-C467-40CB-8D78-B4CE0E07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9EE2-0B24-4F97-B3B6-4AE9CAEC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9D1D-8E68-47F2-B572-BD4DA0A0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F458-5A0E-4A1B-BB4F-A4E6AC73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8C32-110C-4A07-9A85-0F6C535E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A0CD-6D7A-4E08-90E1-35141A5D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B45-F4A2-49A9-AE97-38B83E95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3C38-A8BF-480B-8C70-EA22C071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0FBF-C880-4AA3-8590-F2361C28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A680-CD45-472D-BDB8-5F6F931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010D-933E-4A51-AC10-0807382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4A55-99F2-42DA-919C-B834B13B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466E-6790-4DDD-896F-A72685E8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4999-63C5-4B6F-B86D-E5A11766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F614-2C0F-4647-911E-89D8BC11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9A62-D88D-4327-A8CF-CA27E47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A9A3-AC45-445A-8001-23FB77CA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32E-5386-4EB9-ABE5-6E2AEF7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B1CE-BB72-4613-A46F-EAA2D230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38C2-F7EC-4F3E-93D7-6A1CD49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EE1B-F353-4BA2-8D63-FEFC47FE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8FC1-E8F8-49FC-A312-479F310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446B-69DA-4A95-8FE5-440BFF7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465C-3E4F-4329-80A3-263FA62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C6DD-4CE5-4DF5-832F-C5582CCC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8DC4-50FC-4DC2-9FEF-FD3ABF95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59DA-6116-4753-9165-FF6003A2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A56-92E2-4165-8746-8FB6BF7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50E-AB4D-41AB-86FC-B586F6CF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DC0-2CF7-4EFB-A76A-10410AA2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1B4-67F0-4078-A07A-E2C1423F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036-C291-4630-9017-A87ADE0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0BBD-D830-40D7-B37E-4B0D7EAF0E10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0B4-660F-42CB-9D24-DA3D30DB35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8F8E-C48D-4EFB-982F-9310D9F84D1D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258-A43F-4B8B-86F2-714B5C6985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4CB-3C91-4904-9E4B-E7247BC22196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1913-D7E9-42E6-A0BB-FEC219DABA3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451-77A4-43EF-BDC1-560D6C2DD14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E45-41AE-4701-9F2E-A41B33FC06F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792000" y="285840"/>
            <a:ext cx="7712280" cy="2311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Program Files (x86)\Microsoft Office\MEDIA\CAGCAT10\j0300520.gif"/>
          <p:cNvPicPr/>
          <p:nvPr/>
        </p:nvPicPr>
        <p:blipFill>
          <a:blip r:embed="rId3"/>
          <a:stretch/>
        </p:blipFill>
        <p:spPr>
          <a:xfrm>
            <a:off x="3232080" y="4191120"/>
            <a:ext cx="2895840" cy="16761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3391920" y="289548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. Gregory M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What is E-rat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am designed in 1996 to overcome the “digital divid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igned to narrow Internet access gap between affluent and non-affluent school distri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s discounts for communications, network equipment, and cabling for qualified schools and school distri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burses $2-3 billion annu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Who manages the E-rate Program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deral Communications Commission (FC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hools and Libraries Division (SL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s items eligible for E-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uters are not eligible, only infrastructure components such as routers and switc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Program Files (x86)\Microsoft Office\MEDIA\CAGCAT10\j0292020.wmf"/>
          <p:cNvPicPr/>
          <p:nvPr/>
        </p:nvPicPr>
        <p:blipFill>
          <a:blip r:embed="rId2"/>
          <a:stretch/>
        </p:blipFill>
        <p:spPr>
          <a:xfrm>
            <a:off x="3083040" y="4724280"/>
            <a:ext cx="17920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How does a school district qualify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an urban or rural school district with a majority of students qualified for the free and reduced lunch pro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Child Internet Protection Act (CIPA) compli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ility to contribute 10% of total c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able of using information technology infrastructure by having computer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an approved technology 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training on the use of technolog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4617b"/>
                </a:solidFill>
                <a:latin typeface="Calibri"/>
              </a:rPr>
              <a:t>How has SAISD benefited from E-rate?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ived over $40 million since 1996 for the follow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speed wide area network for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port for telephone servi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reless infrastruc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quipment to connect Internet and networ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ntenance contract for network equi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Schools Re-cab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Future E-rate Proj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2520" y="236196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-cable middle and elementary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grade wireless network infrastructure for faster, more reliable conn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lement voice over IP (VOIP) in each school to allow a phone in every classroom if nee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C:\Program Files (x86)\Microsoft Office\MEDIA\CAGCAT10\j0285410.wmf"/>
          <p:cNvPicPr/>
          <p:nvPr/>
        </p:nvPicPr>
        <p:blipFill>
          <a:blip r:embed="rId2"/>
          <a:stretch/>
        </p:blipFill>
        <p:spPr>
          <a:xfrm>
            <a:off x="2971800" y="4724280"/>
            <a:ext cx="243828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i="1" lang="en-US" sz="4500" spc="-1" strike="noStrike">
                <a:solidFill>
                  <a:srgbClr val="04617b"/>
                </a:solidFill>
                <a:latin typeface="Calibri"/>
              </a:rPr>
              <a:t>THE EN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Program Files (x86)\Microsoft Office\MEDIA\CAGCAT10\j0234657.wmf"/>
          <p:cNvPicPr/>
          <p:nvPr/>
        </p:nvPicPr>
        <p:blipFill>
          <a:blip r:embed="rId2"/>
          <a:stretch/>
        </p:blipFill>
        <p:spPr>
          <a:xfrm>
            <a:off x="1523880" y="3124080"/>
            <a:ext cx="5486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19Z</dcterms:created>
  <dc:creator>gregory lee</dc:creator>
  <dc:description/>
  <dc:language>en-US</dc:language>
  <cp:lastModifiedBy>Mills, Tonya</cp:lastModifiedBy>
  <dcterms:modified xsi:type="dcterms:W3CDTF">2010-11-08T17:54:32Z</dcterms:modified>
  <cp:revision>30</cp:revision>
  <dc:subject/>
  <dc:title>E-Rate  (Education Rate)</dc:title>
</cp:coreProperties>
</file>